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C61-0F15-48AC-90BF-6DDA6B3E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EDE-E6B6-4F12-9886-A9D2076D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BA797-2AB8-4BFE-9841-6E000521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585CC-A6F7-4272-BE48-6EF6DC55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76D11-E66A-463B-9A64-AC6B7D79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D5109-1BD1-48FC-9255-94024B55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84CAA-250C-4202-A0EA-8A6D6971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44A69-48FD-4CBB-BEF2-8ADE2D09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DA005-440E-4B35-AE43-BD93F85D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0D1AF-FC33-4577-8D22-0C206615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AF6F1-9C5D-45C6-87C8-5333E9EE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98B6F-6AC0-44D5-8499-6DC25529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C7D-AE95-4422-9262-E2962BFE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BADE9-B880-4867-9DF6-E8E83434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B68BC-E0BC-41CA-A9D8-E842487C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1820E-36D6-4FD7-BC28-90B054B1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7E9CE-F132-4B05-816A-58FB8B4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6CB75-BFE1-4F9B-809A-AC0863A1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9C019-2D29-437B-AC67-E9E4566E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99AAB-9FE5-4375-B9B9-C60A025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BB4BF-4FC9-4004-8AC5-3CE4A41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51583-D6C6-4DF2-9D64-4311F600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B2CB0-0CB5-4272-8CC3-BCA36B0C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DE3-AF74-448B-9326-BA9967A4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F0524-2E09-48CF-9E1A-140E4D3E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9C534F-9E57-4F51-9524-CB29AE3F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ACDE63-2236-4589-A47D-53F456CE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D06032-A217-4649-839A-19037443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AB7122-587F-4503-BEDC-48AA82B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6882F3-DB10-4320-B7F9-FE32D612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B73609-E666-4E8E-9A86-7494F013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A40089-F38E-4CB1-A10D-0067DB1B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9D08B3-18FF-4B75-86EA-58E2B35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06D93A-D2CB-4E1A-818D-F4339AD1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723D-6A57-48BB-8B39-324B0EF2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9E695D-9117-4A49-8DC1-8D2179DB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BC8084-9E4C-47F6-8E72-590CFB17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033EDA-082A-4B4D-A544-09971630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709A4-98FE-463A-87EC-4649209D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92ED8-C4AC-4A17-8DE7-1D39E5A9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358A4-8C84-415A-9E88-DC332C8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1ED04-B298-40F8-B3F2-1F8D2DCE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2F62A-AB2A-4718-B5DF-682D88B0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37019-BD61-4C8F-81C7-27060368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1878D-00B0-4C87-98D8-C49A7601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82D3-23D3-402E-9044-B98B54C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A8DB6-1EAA-4D4E-812F-03C40C1E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1EC20-59A4-4571-9121-34CFA34B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C035E-8FB6-42AF-9396-03F66E34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F2C59-D514-4B07-AA32-DFF1888D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721A2-FC10-4118-A619-9DFCEB27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E14BF-41D6-4566-A9D2-54DEA8A2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A436F-8363-4F85-AC4F-8D1E89E4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8AB44-4730-441F-8916-7141BCA5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2EC66-A7B6-4E0A-9BB6-86D701DB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A3305-52DA-4865-A723-6403B255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88DE-04C7-49FE-8728-7841765B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06B2D-2906-4B18-91AD-56E84481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CC8F0-10C5-43C7-801D-1AD6D4AB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5C671-313B-456E-8622-1E30D42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5E868-5449-4DB5-AB78-6D82F19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68306-43B0-45D2-9FC4-D0B8C64E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01DE8-FD65-43D8-A4C4-5AEA5A59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A113B-808A-4342-BE86-15AA78A7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1D49D-8629-422D-B2ED-1543A3BD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8D61E-E8E5-466B-8FB4-8FAC7E08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A0653-1D96-4393-B3EA-E744C9AE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FC15-DD48-4C7A-BF87-7C7BD8BA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9C488-16FA-4E04-9945-FBCC3BD2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39553-DBB0-4670-B5D0-72B56267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31EE4-1D55-4568-B355-24A0017C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B79D4-22CC-4A4F-AB98-C4406620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20A0D-4555-47DC-A4BB-062407D6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4C6D8-1337-4862-86DD-AAFE73A6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78875-8588-45A6-9851-9BC121DA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B7D0B-1BBF-46C2-8E21-12CD33DE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73DC8-D459-43AD-A69D-4C809707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4F68-CB30-4071-B884-42E7FF74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9179-A27A-4E31-9745-E431E441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347A-32C6-48E4-A2D9-167CC4DE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A29-1CE6-485D-B0CA-97FF76A7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3752-B4A2-4CD2-9960-7830728B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B71E-AFF3-4B00-91E5-CE8E2AC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FB03-EE12-4A06-91D6-ACA0CEA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B904-ED7E-44C3-B2BA-3427E458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454-7533-4CF8-A196-2DFDE4CA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AB0A-AF98-4CED-A35B-094AF7E8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E78C4-FBB8-4806-8BE0-5B7E967C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FB70-E70D-49FD-9479-1BEA9A66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7F74-4651-4EA8-8824-E5F31D4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FCAB-C634-4D56-A2FA-50248D03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D8A-DA03-455B-B3EF-BB5E1AD9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3849-DA1A-4784-B753-052D12FC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9972-22DF-424B-871B-E6E3E0F2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741F-1063-43B1-9582-CBFEE32B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8362-DF7E-49DD-BA03-624F4AD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FF76-FC70-412D-AC62-54ADC768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847A-F0C8-4301-B698-31B4DDC6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9274-471E-41DE-9BAA-F6E25D6B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4E74-1102-4EA3-864F-53D52DCB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907E8-A48D-40DD-9C19-BE48B1C0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F16B-4967-4256-B174-616B462F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252-46DA-4F7B-A18C-C4896F39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CCF4-8907-47BE-BAEC-938FE5A3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552F-4215-4DDE-84CA-E14F899D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49DE-9D45-4FE3-AD76-3D3AA49B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1EADA-DD53-4B0F-95B6-3E8F47C1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EE488-BD28-492E-84CA-B783315F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1DB1-C5A5-480E-BA3C-4A4FF8C4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7ED2-B929-4659-8D00-C8711A71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1126-ABDE-49CB-AB93-A8307954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C37F-E123-4922-A239-44FFADF5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D2C24-9F3F-4EB0-A9D7-A2EED286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BE1-3386-4C84-866F-28BCB3AD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77AB-2D4E-42B2-8FDD-B09C4389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9BD2C-8C43-4171-8842-1BD9D309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22BCC-1880-4E99-A9F7-C3F0AAA2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286D-EA5D-49C3-B43A-CC626FD6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266B-D114-462E-B903-412EBD6B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8228-4CE6-400E-A874-2626843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766E-2DF0-48E8-BB79-D2A04B5D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54833-7DB6-43F5-8EF5-299DB45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158FB-A9B9-4CC9-A381-DA22D8C1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47E6-4A8F-4405-A2F0-328EC92A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2F2-5568-4409-9D1F-AD1628D8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EEAFB-355B-4CAB-87F8-D407789A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49185-E21F-4582-83E8-EC5DDCA6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5E23A-4551-4178-8832-9BB49247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3126A-9B0D-49EA-861E-B657E3CC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DE812-984B-45AC-86A3-2FF0DF11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0A060-10E3-4E0F-B257-2C949C6B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80EF0-E804-4E3B-A085-C9350E0B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E50BFC-0323-4DD1-B7EA-7637CF2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90292-BC70-4FA5-A3DD-80DC7E8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AFDE2-54D6-4B95-9C86-46183274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E7E-4417-4CCE-A457-7E58F7E2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7875EC-E7FE-488D-BE4A-84B29198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AD582-6CB7-4CE7-94C4-286408C8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C5C82-3D26-4212-82F8-B456FF11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5BE0E-6581-47F5-B2D1-52094ACE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CC4F2-7D1B-4C04-BF26-F8D2D1F8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75C89-146A-4840-AB05-206AB062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584FE-5E9F-4473-ABDA-FC5848C4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AB4EF-1222-48FE-919A-E97D8DE2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EFDB2-A868-418F-8E9C-181C251A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1DA5C-18DC-4A07-B4E1-1C7E022B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4BD-8323-4070-A425-70974138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A0649-3642-4979-A541-428B02E2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7B024-5B90-49E6-990D-6BCD326D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2A7B-F14E-4BC3-B811-20CF4C65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255E-0DF4-4F8D-9A01-5D48363C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6329B-B65B-4EA7-A23D-A976A2BE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FA5E1-097B-4786-A6FC-2FBD3565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5554F-6DB8-445F-9876-279EE7BD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D5BFF-0E9D-4BA5-8ABD-9957EAFE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2D27-7B25-4EAE-B20C-7ACE7BBA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613CE-DE33-48B3-8D74-7FA168D3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289-F364-4A7A-9001-4EA860F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FB3AB-F243-4954-B83A-5C369E06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3372F-F2FB-4AFB-BF15-39ADC431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76AF-F923-496B-BB81-6BC9575E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CD664-51D8-4CDC-A1D2-8552396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A8728-523B-43AD-831C-6C7943B0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730A6-84DD-472F-BE94-4B5F2FA4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55648-8282-442C-875E-D2D43EF9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E8357-F0F2-42DE-97BD-793B39D9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380CE-AC24-41E0-A998-15F8A623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9DA6C-5256-4956-8B0A-DC628DA7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04A-9A29-43DA-BE25-D71A462EF06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3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37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F71A-E767-4BC1-839F-7050265D1E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78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76EA-2365-4FD2-96BB-E175B08A8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35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E2EA-40B1-4446-B3F5-CB44BA23D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6D05-E723-45DE-B340-8AC28E140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14A-38AA-443E-96B3-40E6C5A25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AF6A-11EF-4AEB-8A50-8A01E7ECEE2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EAB-6F38-4A70-A57E-9D86E00F0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A216-8056-42BF-BE30-15F27AF13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7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8D50-29D5-440E-BB7C-2158AEAB53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3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3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3554-A5D9-4081-BF67-0F1A186CD9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9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F651-562C-45B4-BF1A-DC482F0E2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904C-DD94-4B0A-824B-6D037CE59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25EA-B71C-401A-8D32-DEA4CF258F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Fabulos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129528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Jack Flaher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518184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Piscin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200400" y="5867280"/>
            <a:ext cx="266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Piscin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 rot="20785800">
            <a:off x="3580920" y="160020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1402" name="" descr=""/>
          <p:cNvPicPr/>
          <p:nvPr/>
        </p:nvPicPr>
        <p:blipFill>
          <a:blip r:embed="rId2"/>
          <a:stretch/>
        </p:blipFill>
        <p:spPr>
          <a:xfrm rot="295200">
            <a:off x="5334120" y="34290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403" name="" descr=""/>
          <p:cNvPicPr/>
          <p:nvPr/>
        </p:nvPicPr>
        <p:blipFill>
          <a:blip r:embed="rId3"/>
          <a:stretch/>
        </p:blipFill>
        <p:spPr>
          <a:xfrm rot="21023400">
            <a:off x="1143000" y="29714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Es Una Cocin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144792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Coc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1"/>
          <a:stretch/>
        </p:blipFill>
        <p:spPr>
          <a:xfrm>
            <a:off x="1638360" y="12286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s Un Comedo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144792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omed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9" name="" descr=""/>
          <p:cNvPicPr/>
          <p:nvPr/>
        </p:nvPicPr>
        <p:blipFill>
          <a:blip r:embed="rId1"/>
          <a:stretch/>
        </p:blipFill>
        <p:spPr>
          <a:xfrm>
            <a:off x="2133720" y="1606680"/>
            <a:ext cx="5257800" cy="3811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144792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Sal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533520" y="1028880"/>
            <a:ext cx="8458200" cy="502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s Un ban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144792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b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3810240" cy="2535120"/>
          </a:xfrm>
          <a:prstGeom prst="rect">
            <a:avLst/>
          </a:prstGeom>
          <a:ln w="0">
            <a:noFill/>
          </a:ln>
        </p:spPr>
      </p:pic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4876920" y="2765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 Un Cuar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76360" y="60955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uar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1"/>
          <a:stretch/>
        </p:blipFill>
        <p:spPr>
          <a:xfrm>
            <a:off x="1219320" y="1106640"/>
            <a:ext cx="739116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s Un Pat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3047760" y="5866920"/>
            <a:ext cx="281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P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899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 Un Jard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2895480" y="5333760"/>
            <a:ext cx="28958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Jard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2"/>
          <a:stretch/>
        </p:blipFill>
        <p:spPr>
          <a:xfrm>
            <a:off x="1905120" y="1469880"/>
            <a:ext cx="5257800" cy="397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 Un Gara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2590560" y="5943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ar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1143000" y="1155600"/>
            <a:ext cx="6629400" cy="439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7:01Z</dcterms:created>
  <dc:creator>flahertyjoh</dc:creator>
  <dc:description/>
  <dc:language>en-US</dc:language>
  <cp:lastModifiedBy>flahertyjoh</cp:lastModifiedBy>
  <dcterms:modified xsi:type="dcterms:W3CDTF">2012-10-25T17:29:26Z</dcterms:modified>
  <cp:revision>4</cp:revision>
  <dc:subject/>
  <dc:title>Mi Fabulosa Mansion</dc:title>
</cp:coreProperties>
</file>